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BEC-E54E-4566-907E-275165D8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067-1AFD-46A2-9FE9-17DE04EB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42A-E477-4E85-9EE0-ABC9E120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44E-B3B8-43B0-9AC8-FFE65849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9A2-3FE1-4BAB-BAAC-0FBAB074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E9D-75AB-4D5C-A82F-DE1D3F4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4B14-19D2-463A-AE6D-9319F8CA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B09-4EF0-4DA3-A068-F12403E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C998-1E00-4241-AE61-8513A370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5700-E371-4957-B47E-2A8AA66F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F30A-6AD5-4C87-ACDA-1BBBD89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D86-2E4F-4A2C-8E7C-D3428BC0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9C34-01FB-4F35-9013-787A98DC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D0B-CFAA-4389-94C7-1E1DF202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42F-6DF8-4A7B-A469-D0DF8CA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0D2-0C43-4236-B442-F99FA1C9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B4B-1F2D-453E-B5F1-7EFF3865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DC7-7AE2-466E-8657-D64DB14A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B78-FEF4-40ED-9DC0-41F7E4B8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493-D293-4EFA-833D-6552985C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817-7FBA-4C2C-93DB-9A73166C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B5A-26EA-49DE-B206-5F18A73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35D-03F0-43C5-B769-6C698EA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74D-C8FF-470B-B166-D482B8A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4F5A-52D9-4502-9F1A-A92EC3E5A4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63A-BE9B-4AD5-8945-70BEC7563A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ubordinateclaus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mmar bl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not express a complete thought and cannot stand alone as a sentenc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chompchomp.com/terms/subordinateclause.h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comma ru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ubordinate claus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s the last word in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236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toric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3805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es the author want the 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ink or do after seeing or hearing this piece of wri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situatio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go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rou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 and/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udienc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629400" y="5257800"/>
            <a:ext cx="2209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whom is this piece of writing addressed?  What bias does this person or group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5181480"/>
            <a:ext cx="25909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is the writer or speaker? What opinion does this person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828800" y="1219320"/>
            <a:ext cx="5410080" cy="3962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ryl needs to convince her mother of the need for the family to have a cell phone.  Cheryl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of the opinion that the cell phone is a necessity.  Her goal, or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o talk her mother into purchasing the phone.  Her mother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as resisted purchasing for two years but needs to be educated on the low cost, convenience, and usefulness of the phone in emergencies.  Th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ntex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ulture in which cell phones have become the n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560" y="3805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09680" y="1219320"/>
            <a:ext cx="4648320" cy="46479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8098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7816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ummary of our lesson using a subordinat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 essay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definition prompts and decide on context, audience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hetor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 of writing and speaking eff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options for organizing your rhetor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ent what the term is vs. what it isn’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457200"/>
            <a:ext cx="7391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ote each body paragraph to subdivisions of the term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, an essay on love could be devoted to platonic, religious, romantic, and familial love as long as the ideas support the thesi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e focal point of the essay to be a story in support of the thesis but be sure to include several other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emplification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the extended definition by observations, experiences and media support (quotations, movies, readings, and TV show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 of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tive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like a rose in summ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/readings/experien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tions/ other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a four letter word which has the power to change lives, according to Dr. Phi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ymology (history and use of the wo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ncients believed love came from the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and 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may be beautiful, but it can also be painfu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only one of several emotions we don’t entirely understand scientif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defined a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nd effects of th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ect of love on teenagers 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3:32:45Z</dcterms:created>
  <dc:creator>Pat Caskie</dc:creator>
  <dc:description/>
  <dc:language>en-US</dc:language>
  <cp:lastModifiedBy>adamscp</cp:lastModifiedBy>
  <dcterms:modified xsi:type="dcterms:W3CDTF">2008-02-29T16:33:09Z</dcterms:modified>
  <cp:revision>10</cp:revision>
  <dc:subject/>
  <dc:title>What is rhetoric?</dc:title>
</cp:coreProperties>
</file>